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3594-36D7-4DE0-9CE6-F81EFBB51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8F50-0553-45AB-BE18-0B85664C9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00D6-8E12-4078-BAE6-105CC4310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67B0-F926-4722-83A6-14E094977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4195F-37E4-468C-9DC8-03B426FF3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CF3E8-B3BF-446C-B561-8C1E1D456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AF814-E7D6-4AD7-979D-9BAE68570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43417-F22A-4FF0-9E5A-0DB62CD73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B1BCB-1B00-4223-B432-38BF99F7F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00729-4C31-49F2-97BC-79D2EB4D0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7477B-EBF3-43DC-84E1-242EEB05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0574-62F0-44ED-B5CE-66FECFC3E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01FAD-4AE3-474D-9876-0504BA7B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19D19-58EF-4B4C-876E-51AF050C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AF20D-A5D3-450B-AE65-BFEA580AC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47965-5F03-463D-B583-CBBC15386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9A92B-8276-4C64-8042-0CCA49869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8D091-FBBC-48AF-88E5-68E967E6C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AFDCB-B98A-4880-98A4-9F329EED7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60A11-4CF3-4CE1-90EC-F84E01664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4F9ED-FF5F-46E7-B2D5-3D881CF4C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21838-4A09-43AB-BC90-06E564D90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4CF9-FF25-414B-AAB8-D20FA2C93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7EBF3-C457-4D1A-B3E1-573C22505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7493D-4B4D-4AD8-983C-A0B4DC95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9B896-5433-450B-B2A0-C52B0DDE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9C3B2-0995-489D-96E2-29C55524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F5AE1-6E47-4176-A0D1-31200C14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B60BD-CF4B-485B-AA04-87295A40A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D55D4-163E-4247-9947-EF7044171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0885-082E-48D9-A9A2-0D8412ED7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F3E1-A454-4878-9B6D-DD9F61531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6937-9BA7-4E6F-9A20-19521CBCF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B5F1-19B7-4C07-9B41-7CD1ADFF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E352-070F-4F20-BF1E-C43092BE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5BC8-4B17-4302-B73F-8121FBF4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FD33F-527A-477F-BACB-0547613B66A4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B9CEF-A62D-42F0-AE41-B00EED713588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DE4C2-1116-4E17-8DA6-F08962FE4851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908000" y="1557360"/>
            <a:ext cx="5328000" cy="2448000"/>
          </a:xfrm>
          <a:prstGeom prst="rect">
            <a:avLst/>
          </a:prstGeom>
        </p:spPr>
        <p:txBody>
          <a:bodyPr wrap="none" lIns="110160" rIns="110160" tIns="55080" bIns="55080" anchor="t" anchorCtr="1">
            <a:prstTxWarp prst="textPlain">
              <a:avLst>
                <a:gd name="adj" fmla="val 522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rogram cezhraničnej spolupráce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aďarská republika- Slovenská republika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007-2013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4" name=""/>
          <p:cNvSpPr/>
          <p:nvPr/>
        </p:nvSpPr>
        <p:spPr>
          <a:xfrm>
            <a:off x="1535400" y="4508640"/>
            <a:ext cx="60098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520" rIns="110520" tIns="55080" bIns="55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chválenie: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20. december 2007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– Identifikačné číslo: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2007CB163PO06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131960" y="5495760"/>
            <a:ext cx="1959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Ing. Zsolt Törö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Bratislava, 28.02.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79280" y="1197000"/>
            <a:ext cx="8642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Calibri"/>
              </a:rPr>
              <a:t>Priamy prín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Zabezpečená finančná alokácia za prísne definovaných podmieno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Odborné pozadie, transfer know-how, 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Calibri"/>
              </a:rPr>
              <a:t>Nepriamy prín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ytvorenie, posilnenie nových/existujúcich partnerstiev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ytvorenie/posilnenie komunikácie na úrovni vertikálnej a horizontálnej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realizácia „zdola“ (bottom-up) vychádzajúcich rozvojových zámerov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osilnenie konkurencieschopnosti regiónov, 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57800" y="351000"/>
            <a:ext cx="26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ínos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322200" y="981000"/>
          <a:ext cx="8353440" cy="5106960"/>
        </p:xfrm>
        <a:graphic>
          <a:graphicData uri="http://schemas.openxmlformats.org/drawingml/2006/table">
            <a:tbl>
              <a:tblPr/>
              <a:tblGrid>
                <a:gridCol w="2089080"/>
                <a:gridCol w="2089440"/>
                <a:gridCol w="2085840"/>
                <a:gridCol w="2089080"/>
              </a:tblGrid>
              <a:tr h="107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are CBC (Cross-border Co-operation) 2001-20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nd malých projekt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gram susedstva HUSKUA 2004-2006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 </a:t>
                      </a: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výzv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gram cezhraničnej spolupráce HUSK 2007-20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– </a:t>
                      </a: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výzv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ančná alokác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U: 372 000 EU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: 372 000 EU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U: 8 522 875 EU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: 5 548 000 EUR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1 014 050 EU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py projekt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dividuáln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ločný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Zrkadlový, - Doplňujúc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Individuáln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ločný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čet exemplár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originál+ 7 kópií + elektronický nosi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originál+ 5 kópií + elektronický nosi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originál+ 2 kópií + elektronický nosi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čet podporených projekt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1 program (HU0109): 9 k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2 program (2002/000-604): 11 k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 k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6 k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čakávania program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zhraničný dopa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ezhraničný dopad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spodárnos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ezhraničný dopad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spodárnos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Trvalá udržateľnos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vnosť šancí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kritériá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cíp vedúceho partner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7094160" y="32400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Evolúcia?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79280" y="1197000"/>
            <a:ext cx="88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..... prebieha </a:t>
            </a:r>
            <a:r>
              <a:rPr b="0" lang="sk-SK" sz="2400" spc="-1" strike="noStrike">
                <a:solidFill>
                  <a:srgbClr val="ff3300"/>
                </a:solidFill>
                <a:latin typeface="Calibri"/>
              </a:rPr>
              <a:t>3.výzva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 na prekladanie projektov, </a:t>
            </a:r>
            <a:r>
              <a:rPr b="0" lang="sk-SK" sz="2400" spc="-1" strike="noStrike">
                <a:solidFill>
                  <a:srgbClr val="ff3300"/>
                </a:solidFill>
                <a:latin typeface="Calibri"/>
              </a:rPr>
              <a:t>do 28.02.2011, 23.59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55280" y="351000"/>
            <a:ext cx="23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omentálne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rcRect l="15394" t="21474" r="13619" b="28986"/>
          <a:stretch/>
        </p:blipFill>
        <p:spPr>
          <a:xfrm>
            <a:off x="539640" y="1844640"/>
            <a:ext cx="770436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156360" y="351000"/>
            <a:ext cx="21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merujeme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1552680"/>
            <a:ext cx="8856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..... k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4.výzve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na prekladanie projekto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Predpokladaný termín zverejnenia: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2.štvrťrok 2011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Predpokladaná alokácia: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cca.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48 ME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Oblasti podpory: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 ?, predmetom rokovania SM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Finančná alokácia 1. výzvy: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45 009 737,12 EUR,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(246/</a:t>
            </a:r>
            <a:r>
              <a:rPr b="0" lang="hu-HU" sz="2200" spc="-1" strike="noStrike">
                <a:solidFill>
                  <a:srgbClr val="ff3300"/>
                </a:solidFill>
                <a:latin typeface="Arial"/>
              </a:rPr>
              <a:t>106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projektov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Finančná alokácia 2. výzvy: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64 635 978,32 EUR, (270/</a:t>
            </a:r>
            <a:r>
              <a:rPr b="0" lang="hu-HU" sz="2200" spc="-1" strike="noStrike">
                <a:solidFill>
                  <a:srgbClr val="ff3300"/>
                </a:solidFill>
                <a:latin typeface="Arial"/>
              </a:rPr>
              <a:t>107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projektov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Predp. finančná alokácia 3. výzvy (EUR):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10 500 000,00 (?/</a:t>
            </a:r>
            <a:r>
              <a:rPr b="0" lang="hu-HU" sz="22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 flipV="1" rot="10800000">
            <a:off x="5586480" y="1051560"/>
            <a:ext cx="3240000" cy="8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Prioritné osy a oblasti podp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03640" y="2565360"/>
            <a:ext cx="3999240" cy="34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PRIORIT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1 </a:t>
            </a:r>
            <a:br>
              <a:rPr sz="1700"/>
            </a:b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Hospodárstvo a spoločnosť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700" spc="-1" strike="noStrike">
                <a:solidFill>
                  <a:srgbClr val="ff3300"/>
                </a:solidFill>
                <a:latin typeface="Arial"/>
              </a:rPr>
              <a:t>41% (85 133 595 EUR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PRIORIT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1700"/>
            </a:br>
            <a:r>
              <a:rPr b="1" lang="pl-PL" sz="1700" spc="-1" strike="noStrike">
                <a:solidFill>
                  <a:srgbClr val="000000"/>
                </a:solidFill>
                <a:latin typeface="Arial"/>
              </a:rPr>
              <a:t>ŽP, ochrana prírody a dostupnosť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700" spc="-1" strike="noStrike">
                <a:solidFill>
                  <a:srgbClr val="ff3300"/>
                </a:solidFill>
                <a:latin typeface="Arial"/>
              </a:rPr>
              <a:t>53% (110 050 746 EUR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PRIORIT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3</a:t>
            </a:r>
            <a:br>
              <a:rPr sz="1700"/>
            </a:b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Technická asistenci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700" spc="-1" strike="noStrike">
                <a:solidFill>
                  <a:srgbClr val="ff3300"/>
                </a:solidFill>
                <a:latin typeface="Arial"/>
              </a:rPr>
              <a:t>6% (12 458 575 EUR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4716000" y="1773360"/>
            <a:ext cx="64764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-55080" bIns="-55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0" y="-27000"/>
            <a:ext cx="4629240" cy="6867360"/>
            <a:chOff x="0" y="-27000"/>
            <a:chExt cx="4629240" cy="6867360"/>
          </a:xfrm>
        </p:grpSpPr>
        <p:sp>
          <p:nvSpPr>
            <p:cNvPr id="139" name=""/>
            <p:cNvSpPr/>
            <p:nvPr/>
          </p:nvSpPr>
          <p:spPr>
            <a:xfrm>
              <a:off x="0" y="-27000"/>
              <a:ext cx="4629240" cy="6867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147680" y="161280"/>
              <a:ext cx="2296440" cy="72216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rogram cezhraničnej spoluprác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Maďarsko -Slovensk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2007 - 20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314440" y="864360"/>
              <a:ext cx="0" cy="546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536480" y="1026720"/>
              <a:ext cx="167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1488240" y="1026720"/>
              <a:ext cx="4824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188880" y="1026720"/>
              <a:ext cx="4824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4480" y="1135080"/>
              <a:ext cx="1567440" cy="64836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RIORITNÁ OS 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Hospodárstvo a spoločnos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418320" y="17301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8680" y="1730160"/>
              <a:ext cx="0" cy="427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064400" y="17301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4210200" y="1730160"/>
              <a:ext cx="11520" cy="362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508480" y="1135080"/>
              <a:ext cx="1567800" cy="64836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RIORITNÁ OS 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ŽP,</a:t>
              </a: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 </a:t>
              </a: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chrana prír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a dostupnos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64480" y="1892520"/>
              <a:ext cx="1555920" cy="54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odpora spolupráce     v oblasti hospodárstva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64480" y="2541240"/>
              <a:ext cx="1555920" cy="54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Spolupráca v oblasti V&amp;V a inováci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08480" y="1892520"/>
              <a:ext cx="1549440" cy="70776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2.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Spoločné aktivity              na podporu ochrany prír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08480" y="2757960"/>
              <a:ext cx="1549440" cy="548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2.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Spoločné aktivity ochrany prír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18680" y="221652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18680" y="286524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64400" y="227052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97000" y="6326280"/>
              <a:ext cx="2236320" cy="3776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RIORITNÁ OS 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Technická asistenc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64480" y="3190680"/>
              <a:ext cx="1555920" cy="54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odpora spoločného rozvoja turizm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64480" y="3785760"/>
              <a:ext cx="1555920" cy="640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Spoločný rozvoj a koordinované využívanie zdravotníckych zariadení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4480" y="4542480"/>
              <a:ext cx="1555920" cy="480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5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Rozvoj sieťovania,partnerstva,  prog. &amp; proj. kapacít manažm.</a:t>
              </a:r>
              <a:r>
                <a:rPr b="0" lang="en-GB" sz="9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64480" y="5137560"/>
              <a:ext cx="1555920" cy="54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Spoločné využívanie a rozvoj ľudských zdrojo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4480" y="5786280"/>
              <a:ext cx="1555920" cy="388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Aktivity Ľudia ľuďo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18680" y="34599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8680" y="41637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18680" y="475884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8680" y="529992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8680" y="600228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08480" y="3406680"/>
              <a:ext cx="1549440" cy="70776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2.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Výstavba maloplošných komunikácií, cyklistických trás, verejná doprav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08480" y="4272120"/>
              <a:ext cx="1549440" cy="70812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2.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Zabezpečenie lepších hraničných prechodov cez prihraničné riek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08480" y="5137560"/>
              <a:ext cx="1549440" cy="548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2.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Zlepšenie komunikačných kanálo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64400" y="31359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64400" y="383940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064400" y="454248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64400" y="53535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Szöveg helye 2"/>
          <p:cNvGraphicFramePr/>
          <p:nvPr/>
        </p:nvGraphicFramePr>
        <p:xfrm>
          <a:off x="2211480" y="115920"/>
          <a:ext cx="4592520" cy="612144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177" name="Szöveg helye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11480" y="115920"/>
                    <a:ext cx="4592520" cy="612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142920" y="1989000"/>
            <a:ext cx="8893080" cy="0"/>
          </a:xfrm>
          <a:prstGeom prst="line">
            <a:avLst/>
          </a:prstGeom>
          <a:ln w="22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04000" y="765000"/>
            <a:ext cx="2160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vostupňová kontrola </a:t>
            </a:r>
            <a:r>
              <a:rPr b="0" lang="sk-SK" sz="1600" spc="-1" strike="noStrike">
                <a:solidFill>
                  <a:srgbClr val="ff3300"/>
                </a:solidFill>
                <a:latin typeface="Arial"/>
              </a:rPr>
              <a:t>na úrovni partnera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(MPaRV S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6372000" y="1125360"/>
            <a:ext cx="433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77080" y="3284640"/>
            <a:ext cx="2160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ruhostupňová  kontrola </a:t>
            </a:r>
            <a:r>
              <a:rPr b="0" lang="sk-SK" sz="1600" spc="-1" strike="noStrike">
                <a:solidFill>
                  <a:srgbClr val="ff3300"/>
                </a:solidFill>
                <a:latin typeface="Arial"/>
              </a:rPr>
              <a:t>na úrovni projekt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(STS Program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30+30 d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6372000" y="3789360"/>
            <a:ext cx="433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0360" y="1076400"/>
            <a:ext cx="150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Zodpovedný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Každý partn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za se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81440" y="3387600"/>
            <a:ext cx="150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Zodpovedný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edúci part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63640" y="1484280"/>
            <a:ext cx="647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63640" y="3645000"/>
            <a:ext cx="647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156360" y="3510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kúsenosti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9280" y="1268280"/>
            <a:ext cx="88567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MIS (podávanie ŽoNFP, monitorovacia správa na úrovni projekt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Obľúbené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versus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menej obľúbené oblasti podp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epružné/nasilu vytvorené partnerstvá (počet partnerov, hodnotenie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versus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implementáci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edostatočná komunikácia (vertikálna, horizontáln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edsotatočné finančné zázemie (finančná kríz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eúnosné množstvo žiadostí o zmenu projektu (realokácia financií, zmena manažérov, predĺženie projektu,...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Odstúpenie od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+3/2 parvidl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ízka kvalita predložených monitorovacích sprá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adhotnotené indiká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Publicity guide (striktné predpisy),..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79280" y="1844640"/>
            <a:ext cx="8856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Ďakujem za pozornosť a v mene 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ám prajem veľa úspecho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i implementácii projekt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zabúdajte: </a:t>
            </a:r>
            <a:r>
              <a:rPr b="0" lang="sk-SK" sz="2400" spc="-1" strike="noStrike">
                <a:solidFill>
                  <a:srgbClr val="ff3300"/>
                </a:solidFill>
                <a:latin typeface="Arial"/>
              </a:rPr>
              <a:t>ak máte pochybnosti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ff3300"/>
                </a:solidFill>
                <a:latin typeface="Arial"/>
              </a:rPr>
              <a:t>pýtajte sa!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My sme tu pre Vás a Vy ste tu pre nás </a:t>
            </a:r>
            <a:r>
              <a:rPr b="0" lang="sk-SK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6T09:42:45Z</dcterms:created>
  <dc:creator>thomas</dc:creator>
  <dc:description/>
  <dc:language>en-US</dc:language>
  <cp:lastModifiedBy>TorokZsolt</cp:lastModifiedBy>
  <dcterms:modified xsi:type="dcterms:W3CDTF">2011-02-25T11:03:08Z</dcterms:modified>
  <cp:revision>39</cp:revision>
  <dc:subject/>
  <dc:title>1. dia</dc:title>
</cp:coreProperties>
</file>